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22.jpeg" ContentType="image/jpeg"/>
  <Override PartName="/ppt/media/image14.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2.jpeg" ContentType="image/jpe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8E43C-BF48-43D3-9E9B-0F04AC006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D33B6-ABA5-4616-A769-0269AC094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68A7B-3A1F-47A3-AD68-9B2142408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C7A56-45AA-468F-B5E9-DDBB7A8F5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93260-1DB0-4357-9531-232484E0F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A4EF5-090C-41C8-BA75-D0DEE51E9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C121A-896E-44E5-B521-685299C53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72836-D347-4FF3-A728-A11CCFD95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65740-BA0F-4778-A1D8-62BAE782A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7AF35-4E2A-4DB2-93BA-417AFE6A4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651A0-589A-48D4-AB34-6D397B10A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9EBDE-8651-406B-8887-F5CFA90AD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1325D-1C6F-4CB8-B0D4-843D2CDB7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AED5B-0AA5-4AFB-80B7-B93C923C5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00D37-F141-447B-9ADB-717288B84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8AE4B-7D9D-41B4-AB32-2B741769C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F091C-32DA-43B6-861C-BDCF23694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5BC59-7FE3-4E28-8401-DD5FB41AA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69593-39F7-43C1-931A-781BCB4D3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E5531-2C5A-4D13-AC57-03AB8DC4B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69AB6-AEF9-4B50-B468-C32A72410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92F36-0A10-4B6C-8505-DC3D78BEB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DA6FF-C911-42B2-BC8B-E867BEAAC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04992-9B16-4C2D-9843-4F52BD075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482E-20D9-4F3F-BEC6-486120D9143B}"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DE6F-EB75-49B2-BAB4-BB89469D4DD7}"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365120"/>
            <a:ext cx="8242200" cy="205452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By max</a:t>
            </a:r>
            <a:endParaRPr b="0" lang="en-US" sz="2800" spc="-1" strike="noStrike">
              <a:solidFill>
                <a:srgbClr val="ffffff"/>
              </a:solidFill>
              <a:latin typeface="Book Antiqua"/>
            </a:endParaRPr>
          </a:p>
        </p:txBody>
      </p:sp>
      <p:pic>
        <p:nvPicPr>
          <p:cNvPr id="84" name="Picture 4" descr="D:\Users\wil0056\Pictures\pictures\cats log.JPG"/>
          <p:cNvPicPr/>
          <p:nvPr/>
        </p:nvPicPr>
        <p:blipFill>
          <a:blip r:embed="rId2"/>
          <a:stretch/>
        </p:blipFill>
        <p:spPr>
          <a:xfrm>
            <a:off x="6286680" y="3214800"/>
            <a:ext cx="2286000" cy="2490840"/>
          </a:xfrm>
          <a:prstGeom prst="rect">
            <a:avLst/>
          </a:prstGeom>
          <a:ln w="0">
            <a:noFill/>
          </a:ln>
        </p:spPr>
      </p:pic>
      <p:pic>
        <p:nvPicPr>
          <p:cNvPr id="85" name="Picture 5" descr="D:\Users\wil0056\Pictures\pictures\cats log.JPG"/>
          <p:cNvPicPr/>
          <p:nvPr/>
        </p:nvPicPr>
        <p:blipFill>
          <a:blip r:embed="rId3"/>
          <a:stretch/>
        </p:blipFill>
        <p:spPr>
          <a:xfrm>
            <a:off x="928800" y="3286080"/>
            <a:ext cx="2143080" cy="233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450720" y="268200"/>
            <a:ext cx="8242560" cy="115884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He is a young gun that goes in hard every time and never stops. He hasn't  been plying  for long but has already made a name for himself winning the rising star award in his first year. Joel plays in the midfield with Gaza and bartel and Cameroon ling. He should grow up to be a great football player.</a:t>
            </a:r>
            <a:endParaRPr b="0" lang="en-US" sz="2800" spc="-1" strike="noStrike">
              <a:solidFill>
                <a:srgbClr val="ffffff"/>
              </a:solidFill>
              <a:latin typeface="Book Antiqua"/>
            </a:endParaRPr>
          </a:p>
        </p:txBody>
      </p:sp>
      <p:pic>
        <p:nvPicPr>
          <p:cNvPr id="108" name="Picture 4" descr="D:\Users\wil0056\Pictures\selwood 1.jpg"/>
          <p:cNvPicPr/>
          <p:nvPr/>
        </p:nvPicPr>
        <p:blipFill>
          <a:blip r:embed="rId2"/>
          <a:stretch/>
        </p:blipFill>
        <p:spPr>
          <a:xfrm>
            <a:off x="5072040" y="4286160"/>
            <a:ext cx="2000160" cy="23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0720" y="268200"/>
            <a:ext cx="8242560" cy="115884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He does not play much in the A.F.L  side but still comes in when they need him. He plays as a little forward poketman who can snag some goal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50720" y="268200"/>
            <a:ext cx="8242560" cy="115884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Johno has kicked some a miracle goals in his career  that has caught a lot of peoples attention.hes kicked them from the pocket from 50 he's kicked them from everywhere . He is not that fit but is still playing with his injury.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Title 1" descr=""/>
          <p:cNvPicPr/>
          <p:nvPr/>
        </p:nvPicPr>
        <p:blipFill>
          <a:blip r:embed="rId1"/>
          <a:stretch/>
        </p:blipFill>
        <p:spPr>
          <a:xfrm>
            <a:off x="450720" y="268200"/>
            <a:ext cx="8242560" cy="115884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He plays centre half forward and can kick some goals . And the crowd always says MOON! When he marks  the ball.  He is one of my favourite  player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Matthew stokes  is a young forward pocket  that can snag some awesome goals. He has a carrying little bit  of an injury.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Gaza is a good midfielder  that is going to be one of the greats in the future. He is my favourite  player  and will be for a long time. He has great skill and will hopefully be for a long time .</a:t>
            </a:r>
            <a:endParaRPr b="0" lang="en-US" sz="2800" spc="-1" strike="noStrike">
              <a:solidFill>
                <a:srgbClr val="ffffff"/>
              </a:solidFill>
              <a:latin typeface="Book Antiqua"/>
            </a:endParaRPr>
          </a:p>
        </p:txBody>
      </p:sp>
      <p:pic>
        <p:nvPicPr>
          <p:cNvPr id="118" name="Title 3" descr=""/>
          <p:cNvPicPr/>
          <p:nvPr/>
        </p:nvPicPr>
        <p:blipFill>
          <a:blip r:embed="rId1"/>
          <a:stretch/>
        </p:blipFill>
        <p:spPr>
          <a:xfrm>
            <a:off x="450720" y="268200"/>
            <a:ext cx="8242560" cy="1158840"/>
          </a:xfrm>
          <a:prstGeom prst="rect">
            <a:avLst/>
          </a:prstGeom>
          <a:ln w="0">
            <a:noFill/>
          </a:ln>
        </p:spPr>
      </p:pic>
      <p:pic>
        <p:nvPicPr>
          <p:cNvPr id="119" name="Picture 3" descr="D:\Users\wil0056\Pictures\ablett.jpg"/>
          <p:cNvPicPr/>
          <p:nvPr/>
        </p:nvPicPr>
        <p:blipFill>
          <a:blip r:embed="rId2"/>
          <a:stretch/>
        </p:blipFill>
        <p:spPr>
          <a:xfrm>
            <a:off x="3214800" y="3429000"/>
            <a:ext cx="2428920" cy="31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0720" y="268200"/>
            <a:ext cx="8242560" cy="1158840"/>
          </a:xfrm>
          <a:prstGeom prst="rect">
            <a:avLst/>
          </a:prstGeom>
          <a:ln w="0">
            <a:noFill/>
          </a:ln>
        </p:spPr>
      </p:pic>
      <p:sp>
        <p:nvSpPr>
          <p:cNvPr id="8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Mark Thompson has been a good coach  for the cats .And has taken them to a couple of grand finals with only coming out with won premiship  cup. Plus his nick name is  bomber Thompso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1" descr=""/>
          <p:cNvPicPr/>
          <p:nvPr/>
        </p:nvPicPr>
        <p:blipFill>
          <a:blip r:embed="rId1"/>
          <a:stretch/>
        </p:blipFill>
        <p:spPr>
          <a:xfrm>
            <a:off x="450720" y="268200"/>
            <a:ext cx="8242560" cy="1158840"/>
          </a:xfrm>
          <a:prstGeom prst="rect">
            <a:avLst/>
          </a:prstGeom>
          <a:ln w="0">
            <a:noFill/>
          </a:ln>
        </p:spPr>
      </p:pic>
      <p:sp>
        <p:nvSpPr>
          <p:cNvPr id="8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Tom Harley is number 2 for Geelong and as well as the Capitan. He plays in the backline  as a centre half back man .</a:t>
            </a:r>
            <a:endParaRPr b="0" lang="en-US" sz="2800" spc="-1" strike="noStrike">
              <a:solidFill>
                <a:srgbClr val="ffffff"/>
              </a:solidFill>
              <a:latin typeface="Book Antiqua"/>
            </a:endParaRPr>
          </a:p>
        </p:txBody>
      </p:sp>
      <p:pic>
        <p:nvPicPr>
          <p:cNvPr id="90" name="Picture 4" descr="D:\Users\wil0056\Pictures\pictures\tom harley.jpeg"/>
          <p:cNvPicPr/>
          <p:nvPr/>
        </p:nvPicPr>
        <p:blipFill>
          <a:blip r:embed="rId2"/>
          <a:stretch/>
        </p:blipFill>
        <p:spPr>
          <a:xfrm>
            <a:off x="4929120" y="3071880"/>
            <a:ext cx="2214720" cy="315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0720" y="268200"/>
            <a:ext cx="8242560" cy="115884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Jimmy bartel  is a great midfielder for the cats. He  won the Brownlow in  2007 with a medallion for winning the grand final. </a:t>
            </a:r>
            <a:endParaRPr b="0" lang="en-US" sz="2800" spc="-1" strike="noStrike">
              <a:solidFill>
                <a:srgbClr val="ffffff"/>
              </a:solidFill>
              <a:latin typeface="Book Antiqua"/>
            </a:endParaRPr>
          </a:p>
        </p:txBody>
      </p:sp>
      <p:pic>
        <p:nvPicPr>
          <p:cNvPr id="93" name="Picture 3" descr="bartel 1.jpg"/>
          <p:cNvPicPr/>
          <p:nvPr/>
        </p:nvPicPr>
        <p:blipFill>
          <a:blip r:embed="rId2"/>
          <a:stretch/>
        </p:blipFill>
        <p:spPr>
          <a:xfrm>
            <a:off x="2714760" y="3000240"/>
            <a:ext cx="3071520" cy="364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0720" y="268200"/>
            <a:ext cx="8242560" cy="115884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Andrew Mackie has not played for Geelong for  long but has already stood up to be one of the cats best back man and was also part of the premiship sid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Travis varcoe is in his second year of A.F.L football. He is a fast and talented and is good for Geelong's run and carr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268200"/>
            <a:ext cx="8242560" cy="1158840"/>
          </a:xfrm>
          <a:prstGeom prst="rect">
            <a:avLst/>
          </a:prstGeom>
          <a:ln w="0">
            <a:noFill/>
          </a:ln>
        </p:spPr>
      </p:pic>
      <p:sp>
        <p:nvSpPr>
          <p:cNvPr id="99" name=""/>
          <p:cNvSpPr txBox="1"/>
          <p:nvPr/>
        </p:nvSpPr>
        <p:spPr>
          <a:xfrm>
            <a:off x="914400" y="164268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Brad Ottens is getting better at the moment but will hopefully be back this week. He has been playing in the reserves for Geelong and came out with success. </a:t>
            </a:r>
            <a:endParaRPr b="0" lang="en-US" sz="2800" spc="-1" strike="noStrike">
              <a:solidFill>
                <a:srgbClr val="ffffff"/>
              </a:solidFill>
              <a:latin typeface="Book Antiqua"/>
            </a:endParaRPr>
          </a:p>
        </p:txBody>
      </p:sp>
      <p:pic>
        <p:nvPicPr>
          <p:cNvPr id="100" name="Picture 4" descr="D:\Users\wil0056\Pictures\ottens.jpg"/>
          <p:cNvPicPr/>
          <p:nvPr/>
        </p:nvPicPr>
        <p:blipFill>
          <a:blip r:embed="rId2"/>
          <a:stretch/>
        </p:blipFill>
        <p:spPr>
          <a:xfrm>
            <a:off x="4500720" y="3071880"/>
            <a:ext cx="2071440" cy="314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0720" y="268200"/>
            <a:ext cx="8242560" cy="115884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Harry Taylor  is a good strong back man for the cats. He has played for a couple of years and already made a name for him self. He has  played on some of the best back mans in the league ,ex.  Buddy Franklin, Jonathon brown ,and Brandon Fevola.</a:t>
            </a:r>
            <a:endParaRPr b="0" lang="en-US" sz="2800" spc="-1" strike="noStrike">
              <a:solidFill>
                <a:srgbClr val="ffffff"/>
              </a:solidFill>
              <a:latin typeface="Book Antiqua"/>
            </a:endParaRPr>
          </a:p>
        </p:txBody>
      </p:sp>
      <p:pic>
        <p:nvPicPr>
          <p:cNvPr id="103" name="Picture 4" descr="D:\Users\wil0056\Pictures\pictures\harry talour.jpeg"/>
          <p:cNvPicPr/>
          <p:nvPr/>
        </p:nvPicPr>
        <p:blipFill>
          <a:blip r:embed="rId2"/>
          <a:stretch/>
        </p:blipFill>
        <p:spPr>
          <a:xfrm>
            <a:off x="4929120" y="3786120"/>
            <a:ext cx="2143080" cy="273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450720" y="268200"/>
            <a:ext cx="8242560" cy="1158840"/>
          </a:xfrm>
          <a:prstGeom prst="rect">
            <a:avLst/>
          </a:prstGeom>
          <a:ln w="0">
            <a:noFill/>
          </a:ln>
        </p:spPr>
      </p:pic>
      <p:sp>
        <p:nvSpPr>
          <p:cNvPr id="105" name=""/>
          <p:cNvSpPr txBox="1"/>
          <p:nvPr/>
        </p:nvSpPr>
        <p:spPr>
          <a:xfrm>
            <a:off x="457200" y="1599840"/>
            <a:ext cx="8229600" cy="4708440"/>
          </a:xfrm>
          <a:prstGeom prst="rect">
            <a:avLst/>
          </a:prstGeom>
          <a:noFill/>
          <a:ln w="0">
            <a:noFill/>
          </a:ln>
        </p:spPr>
        <p:txBody>
          <a:bodyPr anchor="t">
            <a:normAutofit fontScale="54000"/>
          </a:bodyPr>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He is a good  midfielder and can wrap up a lot of possessions. He gets some Brownlow votes every year and he never gives up. I think he is one of the best players at Geelong.</a:t>
            </a: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95560" indent="-22176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8T05:53:34Z</dcterms:created>
  <dc:creator>Education</dc:creator>
  <dc:description/>
  <dc:language>en-US</dc:language>
  <cp:lastModifiedBy>Education</cp:lastModifiedBy>
  <dcterms:modified xsi:type="dcterms:W3CDTF">2009-08-31T02:57:10Z</dcterms:modified>
  <cp:revision>27</cp:revision>
  <dc:subject/>
  <dc:title>Geelong football team</dc:title>
</cp:coreProperties>
</file>